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980-E8C5-4393-8317-7E4C8C6C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55E9-C476-4437-BF2C-E1058F9F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BA8B-BBCC-4329-A2A8-DED863EF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5B2-0139-43C6-9198-E02C19C72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C704-56A8-43FA-A7D5-87E3934F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113-3483-428D-81B2-8E52C0CF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8A2-BBB7-480B-A78B-5D459262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ADE-0CED-46F1-8CAE-8FCD1127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4E06-D9AF-44BE-8112-F55FDEED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E07-340D-4F6F-A2D8-0F70DBBA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87F3-0BF8-44BE-89A2-308BDF65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E756-E4C4-47DB-92F0-262DB25F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solidFill>
            <a:srgbClr val="7e00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3598-D02C-4176-9ADB-DD98E51C7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 AND NINA’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LLER AP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Co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onne L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 Mal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tnak Vat-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934-88E6-46E9-88B0-A25ABB2177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190600"/>
            <a:ext cx="8229600" cy="3345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ology – The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54976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E14-A904-4D19-8258-E3B74A8B24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ology - Constra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390840"/>
            <a:ext cx="83818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= Maximum dollars to be sp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dinner price = VLOOKUP for average dinner price (includes one appetizer, entrée, and dr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lunch price = VLOOKUP; average dinner price x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2014560"/>
            <a:ext cx="8763120" cy="95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194-03D1-414E-B8DD-97AEC11ABB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ology - Constra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828800"/>
            <a:ext cx="87631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l adjusts the output to reflect the number of days entered by the user on the input page.  This ‘constraint’ was incorporated using VBA programm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PS"/>
              </a:rPr>
              <a:t>SolverOk SetCell:="$I$47", MaxMinVal:=1, ValueOf:=0, ByChange:=txtDecisionRange,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P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PS"/>
              </a:rPr>
              <a:t>Engine:=3, EngineDesc:="Standard Evolutionary"</a:t>
            </a:r>
            <a:r>
              <a:rPr b="0" lang="en-US" sz="2400" spc="-1" strike="noStrike">
                <a:solidFill>
                  <a:srgbClr val="000000"/>
                </a:solidFill>
                <a:latin typeface="CourierP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VBA equivalent of setting Solver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hose VBA because otherwise, we would have to set the Solver parameters manually each time the model was run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2251-5CD7-4D9A-982A-C1FDCE21D1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ology - Constra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740040" cy="2271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4419720"/>
            <a:ext cx="8305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unt function prevents the same restaurant from being chosen more than once (based on user in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COUNTIF($B$35:$H$36,B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63D-9FDC-4A9B-ACE5-76E4D54037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als and Tribu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feasible solution, model sends the user to Aquavit for every me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quavit is the first listing in the databas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ary Solver; ‘solution’ is optimal within a local range, not necessarily for the entire data set; get new output with every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ne early version, Tim and Nina suggested lunch at Le Cirque and dinner at Gray’s Pap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952D-CA30-4DAA-967C-620F4DAD47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mi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ary solver will keep trying to identify solutions regardless of fea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 in restaurant weighting will affect utility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restaurant characteristics within the particular geographic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how much weight you assign to favorite cuisine u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 cannot be too low; welcome to NY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63F2-9BA0-4D22-8105-E9C14B6463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ing S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future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particular restaurants the diner wants to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 breakfast destinations into the dining schedul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schedule and price calculations for number of people in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restaurant selection to outer boroughs (read: neighboring suburbs) of the destination 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n eliminate time/distance constraint; too dangerous to estimate time on LIE/BQE or A/C/E, B/D/F/Q, N/R, 1/2/3/9, or 4/5/6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7B1-8F0F-4C7C-8BD6-6355916609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7675" t="29148" r="53147" b="30317"/>
          <a:stretch/>
        </p:blipFill>
        <p:spPr>
          <a:xfrm>
            <a:off x="1600200" y="1828800"/>
            <a:ext cx="59436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9687-2A81-4458-A4DD-5D4798A1FD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0" indent="0" algn="ctr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0" indent="0" algn="ctr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0" indent="-349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0" indent="-349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0" indent="-349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&amp;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0" indent="-349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s and Version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0" indent="-349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 and 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E1E3-A6C7-4F44-BA6C-85D950775A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 Description - Contex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agat’s product offering is 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ew tools for tourist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ew online tool that generates itine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5EF5-B08A-452C-8EA0-CA357DBA27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 Description - Detai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tool for www.zagat.com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recommended restaurant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user preferences and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s to any Zagat city or 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s to be user frien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BD9-69D9-4556-9B56-ABA1DBD5C0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restaurant selections (lunch and dinner) per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aurants identified by unique index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 To Maximize U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gat Food, Décor, Service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Sum of all restaurants ratings, weighted by user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isine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Favorite cuisine utility) X (number of times favorite cuisine is on restaurant schedu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Utility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ng Utility) + (Cuisine Utility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023-0ABC-41C4-A821-D533BC4981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1676520"/>
            <a:ext cx="8763120" cy="4572000"/>
          </a:xfrm>
          <a:prstGeom prst="rect">
            <a:avLst/>
          </a:prstGeom>
          <a:solidFill>
            <a:srgbClr val="7e00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ology – User Inpu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385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ADF7-5C86-4AF2-B5B3-81E63CB389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 Demonst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524560" y="1981080"/>
            <a:ext cx="2286000" cy="2571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95280" y="1905120"/>
            <a:ext cx="2106720" cy="29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E3EB-F2F6-4B84-BA19-04E8A19697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e Outp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1538280"/>
            <a:ext cx="8686800" cy="457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A8E-4B71-436B-A9A0-6FC03432E3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ology - Datab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5864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Inclusion of “0” is necessary to represent the beginning destination of the traveler or resident used in the distance measurement to restaur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1523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3768840"/>
            <a:ext cx="853452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ngs from Zagat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” is necessary to prevent the model from melting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OKUP function: Restaurant ids selected by Solver, provide related restaura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PS"/>
              </a:rPr>
              <a:t>=VLOOKUP(B32,Restaurants,2,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P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04C-BCD1-4221-84D2-F5E885C238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9:53:58Z</dcterms:created>
  <dc:creator>Stern</dc:creator>
  <dc:description/>
  <dc:language>en-US</dc:language>
  <cp:lastModifiedBy> </cp:lastModifiedBy>
  <dcterms:modified xsi:type="dcterms:W3CDTF">2003-05-01T13:36:57Z</dcterms:modified>
  <cp:revision>36</cp:revision>
  <dc:subject/>
  <dc:title>TIM AND NINA’S  KILLER APP</dc:title>
</cp:coreProperties>
</file>